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1F2-8246-4FE1-A529-2C4B08FD23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4451-6C45-471B-A99E-54FA2EDD796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773-94C9-4E40-9040-ABC3B247CB2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82DA-D186-4460-BFEB-FD5223E7AF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6D1-20AE-4442-9887-5E63CC65B2F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D3BD-D1B7-489B-8E09-8C0E25EFE57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1524-9C57-4157-B51E-5CCF96653EB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B90-DA5D-4C4B-9B71-19BAEE48615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82D-4107-471D-A614-89E43342B15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703-2DD6-4043-9A2E-09719C47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9FF-24F6-46B9-87F4-06158248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0E6-E53C-48AC-815F-3FB66A57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23F-D0E3-44A9-9497-760DFB6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BDB-1A10-4E0F-9D13-699EE56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CDA-1CED-4D97-9086-3F1100D0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B3F-860F-4BA0-B79F-3E3CAE5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25A-EB7B-4AA8-807E-8D847BE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F5C-861C-4F54-8655-B4FCEB6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C42-D435-4344-9ADF-C16A93D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75C-5885-45CA-BED8-F7B2BE3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A4A-6639-4821-AD43-DDC2AF4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738-62F4-4D6E-8C7B-424319D327E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6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00" y="4568760"/>
            <a:ext cx="17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Presentation 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190600" y="490680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Erika Gates-Gasse, OCA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500720" y="6437160"/>
            <a:ext cx="2635200" cy="376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390760" y="5967360"/>
            <a:ext cx="1650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anizational Standar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46720" y="6093000"/>
            <a:ext cx="9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alibri"/>
                <a:ea typeface="Arial"/>
              </a:rPr>
              <a:t>Funded b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15920" y="189000"/>
            <a:ext cx="7772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ffffff"/>
                </a:solidFill>
                <a:latin typeface="Trebuchet MS"/>
              </a:rPr>
              <a:t>Contex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7209000" y="6308640"/>
            <a:ext cx="1108080" cy="5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8354880" y="6024600"/>
            <a:ext cx="690840" cy="76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15920" y="966960"/>
            <a:ext cx="88488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2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reation of the Citizenship and Immigration Canada Francophone Minority Communities Steering Committee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November 2003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Framework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outlined 5 objectiv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5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publishes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Towards Building a Canadian Francophonie of Tomorrow: Summary of Initiatives 2002-2006 to Foster Immigration to Francophone Minority Communiti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September 2006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is a five year plan to better coordinate the efforts to achieve the five objectives set out in the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 Framework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arget: By 2008, 4.4% of newcomers outside of Quebec should be French-speaking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estimated it would take 15 years to reach the annual target of 8,000 to 10,000 French speaking immigrants to Francophone Minority Communities (FMC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42472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Between 2003 and 2011, approximately 40% of French-speaking newcomers came from the sub-Saharan African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utside of Quebec, Ontario has the greatest number of French-speaking people. New Brunswick has some 236,100 Francophones (33% of the its population). Ontario has 2x this number, with a population of 578,045 Francophones (~4.8% of total popul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ccording to the 2006 Census, immigrants represent approximately 20% of the total population of Canada and 28% of the population of Ontario; 2.8% of immigrants in Ontario are French-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Francophone immigration is largely an urban phenomenon in Ontario. In 2006, 92% of Francophone immigrants lived in Toronto (33.1%), in Ottawa (24.3%) or in southern Ontario. Approximately 20% live in Peel and York. Hamilton, Halton, Essex, Waterloo, Middlesex, Durham, and Niagara account for approximately 15% of Francophone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fugees an important source of French-speaking newcomers (22% vs 11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The number and make-up of French-speaking immigrants to FMC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rench-speaking immigrant” definition changed to specify those whose first official language is Fren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2.     Immigrant mobil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No data available on the mobility rate of French-speaking immigrants within Ca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3.     Integration difficulties for immigra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     FMCs’ lack of capacity to recruit, receive and integrate French-speaking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Strateg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Better integration of immigrants &amp; refugees already settled in FM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rench-speaking immigrants and refugees from Africa and Ha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Recruitment of new immigran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conomic class immigrants and international students, refug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Integration, retention and settlement of new French-speaking immigrants in FM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cused approach (targeted funding to specific FMCs with demonstrated capacit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stering the employability of workers trained abroad (focus on health &amp; educ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nsuring a functional methodology for teaching both official languages and an effective method for delivery (67% don’t use French at wor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62028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Coordination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Local &amp; provincial: Réseaux en immigration francophone (Ottawa, Hamilton and Sudbur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National: Francophone Minority Communities Steering Committee, Implementation Committ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Priorities for 2006-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and supporting local network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ncreasing awareness of the local communit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language training in English and/or Fren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viding training to upgrade professional and employability skill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Implement 3 major pilot projects over 5 years in at least 2 fields (education and healt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Resear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the creation of micro-business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French-language post-secondary institutions in the recruitment and integration of international stude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Proposal to support the initiatives of 10 post-secondary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moting immigration and selecting potential immigra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refuge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rebuchet MS"/>
              </a:rPr>
              <a:t>Ontario Immigra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ugust 2011: Final Report: Research on Settlement Services Available in French for Francophone Newcomers to Ont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Francophone immigration to Ontario is increasing. They represent 2.8% of Ontario's total immigrant population. New Francophone immigrants who arrived between 2001 and 2006 represent 3.8% of Ontario's recent immigrants (2001-2006). Since 2000, 3,500 to 4,000 Francophones have immigrated to Ontario each ye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abour-market integration and language classes identified by participants as major barrie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vember 2012: Launch of Ontario’s Immigr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arget: achieve 5% Francophone im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xpert Roundtable recommends using the Provincial Nominee Program to achieve this tar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IC Evaluation of th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052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July 2012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valuation of the Recruitment and Integration of French Speaking Immigrants to Francophone Minority Communities Initiative, 2008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4% objective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IC set a short and long term objective: 1.8% by 2013, 4.4% by 2023.  According to their numbers, 1.8% achieved in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Network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stability of funding, national vs regional vi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Services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increase in number of services provided in French (but stats are for agencies that have served at leas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French-speaking newcom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significant new research created, but still an under-researched ar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cruitment barrier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immigrant selection process can be a significant barrier. Destination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egates-gasse</cp:lastModifiedBy>
  <dcterms:modified xsi:type="dcterms:W3CDTF">2013-09-26T16:15:23Z</dcterms:modified>
  <cp:revision>40</cp:revision>
  <dc:subject/>
  <dc:title>PowerPoint Presentation</dc:title>
</cp:coreProperties>
</file>